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2859-3AE9-477B-AB1A-E558B9B8F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763F-6C8B-45EA-ABAB-3866DAF8C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73F-64DF-46C7-AC60-8E72B3C9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E2D-97D1-4CCF-ADC1-6A741AE4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A7B-C68A-4907-9198-4CA790DE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18C-B4F8-4EEC-B7D4-F0F20990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83ED-E9B7-4774-866A-1EC3D879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0113-0A6B-4222-92BB-AAAD9736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9543-5E44-41F8-8897-8885FBA5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522E-F5D3-41C7-BF15-A4419D07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84D7-9327-4360-95D1-B741174F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45DA-1779-4237-BEA4-F2D763DA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C8CA-0A41-4418-9B94-D26E05A1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111-4B03-4C97-AB62-207B4E74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2C55-B39B-44A6-BF13-39841B33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2F6B-6C22-4FDC-AC1B-0E4D46DC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90A4-1579-45CC-92ED-9278B35B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1EB1-0202-46B1-A62A-D1403DA7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B691-90C5-4482-9C9F-9C6F510F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E875-3161-400B-B2A5-A962AA22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6325-FFB9-4625-8B1B-50325EC7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BDEE-B247-4A7D-B68B-C9E8AC6F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8EAA-5C68-4BC2-AEB7-5ECE5B10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C3033-1217-4FE5-996C-069F67A5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C81-DA2A-466C-855A-040794DD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162C0-FE65-4B79-A3E0-E632B3AF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17D4-6629-4019-89A1-3DE3F2D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413B-D971-4E2D-9BD8-8CE35C39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4FAEE-4874-4E50-BA89-1AC92AFB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068E-56E6-4F22-8A31-98541405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D2D3-8B77-49ED-A7F4-3BBDDB3F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EC1B-885A-475D-A539-1645E03E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2A60-67CB-44D3-87F3-00340F3C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4D28-F388-44E7-A86E-E162842D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C315-6E11-4821-A1B7-D2DC0409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F64-7F3D-48B5-B7B3-27BDBB6F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4FEF6-1D93-4A82-8E70-8AF07792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0EF30-1BA3-4511-86B5-E5939931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D0A4B-A0BB-4721-86B2-40C52343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208F2-B632-4685-9661-09FA3C4E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8CB7-6183-434D-9B3B-312D27BD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B83E0-050D-471D-A255-17C5DFFD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4AB0A-C800-4354-AA27-6728ADAF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5EE9-5D96-4623-9F1B-58694C04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24AF-560E-4A5F-8662-DBBAC39A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EFD-60EE-40FD-8065-A8902451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BD0-3C3C-462E-AADC-40A0EDBC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CB3-76F3-41CA-9F51-89DA5E95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E4A-94A1-4952-A600-FE328506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B47-069A-4440-8B22-C93D7D6A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B980-9D71-4881-AC3D-EEB0084AAE9C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9A4F-2B51-4A86-9597-4B0F14305741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3A42-A79A-4FDF-B36F-C408AF3668E3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E062-C1BA-4194-9D33-67DD22F5BEC9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214200" y="142920"/>
            <a:ext cx="8715600" cy="34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Аба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Средняя общеобразовательная школа № 2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ЧТО МЫ ЗНАЕМ О КОРРУПЦИ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00720" y="4714920"/>
          <a:ext cx="4214520" cy="1428840"/>
        </p:xfrm>
        <a:graphic>
          <a:graphicData uri="http://schemas.openxmlformats.org/drawingml/2006/table">
            <a:tbl>
              <a:tblPr/>
              <a:tblGrid>
                <a:gridCol w="4214520"/>
              </a:tblGrid>
              <a:tr h="142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ухорукова Виктория Юрьев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читель русского языка и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Rectangle 4"/>
          <p:cNvSpPr/>
          <p:nvPr/>
        </p:nvSpPr>
        <p:spPr>
          <a:xfrm>
            <a:off x="3787200" y="621576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бакан,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250920" y="549360"/>
            <a:ext cx="7777080" cy="54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сферам деятельности, которые в наибольшей степени подвержены коррупции в России,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моженные службы: пропуск через границу запрещённых к перевозке товаров; возврат конфискованных товаров и валюты; занижение таможенных пошлин; занижение таможенной стоимости товаров и т.д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ие организации: закупка оборудования и лекарств по завышенным ценам; выдача несоответствующих действительности медицинских заключе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инспекции: необоснованное предоставление лицензий (водительских прав, справок о прохождении техосмотра); отсутствие законного наказания для нарушителей правил пользования дорогами и т.д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дебные органы: предвзятое рассмотрение обстоятельств дела; принятие неправосудных решений; нарушение процессуальных норм; противоположные решения различных судов по одному и тому же дел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органы: не взимание налогов в полном объёме; возвращение НДС; вызванная конкурентами проверка и остановка производ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охранительные органы: возбуждение и прекращение уголовных дел, а также направление их на дополнительное расследование; отсутствие законного наказания за правонарушения различной тяже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цензирование и регистрация предпринимательской деятельности и многое 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415880" y="292428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жШан, циярупК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1497960" y="2852640"/>
            <a:ext cx="49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тиякраБю, каВтз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229400" y="3068640"/>
            <a:ext cx="558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вотельгамоВы, кетР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539640" y="105264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и поговор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е подмажешь, не поедешь» – вымогательство, взяточн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ка руку моет» – групповая запланированная деятельность в подк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агребать жар чужими руками» – несознательное соучастие в мошенничестве и афе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идит око, да зуб не мед» – безрезультативность действий борьбы с корруп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468360" y="2060640"/>
            <a:ext cx="712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наки коррупционного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оюдное согласие участников 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аличие взаимных обязатель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лучение определенных выгод и преимуществ обеими сторон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инимаемое решение нарушает закон или противоречит моральным норм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ознательное подчинение общих интересов личной выг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е стороны стремятся скрыть свои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324000" y="711000"/>
            <a:ext cx="8478720" cy="55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едствия корруп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ономические послед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яется теневая эконом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аются конкурентные механизмы ры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дляется появление эффективных частных собствен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эффективно используются бюджетные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аются цены за счет коррупционных «накладных расходов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У агентов рынка появляется неверие в способность власти устанавливать, контролировать и соблюдать честные правила рыночной иг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Расширяются масштабы коррупции в неправительственных организ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ые послед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лекаются колоссальные средства от целей общественного развит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яются и увеличиваются резкое имущественное неравенство и бедность большой части насе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скредитируется право как основной инструмент регулирования жизни государства и обще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умпированность правоохранительных органов способствует укреплению организованной преступ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еличивается социальная напряженность, бьющая по экономике и стабильности в стра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итические послед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Происходит смещение целей политики от общенационального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Уменьшается доверие к власти, растет ее отчуждение от обще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Падает престиж страны на международной арене, растет угроза ее экономической и политической изоля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фанируется и снижается политическая конкуренц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величивается риск крушения нарождающейся демокр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>
            <a:off x="785880" y="2071800"/>
            <a:ext cx="7715160" cy="29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1f5c"/>
                </a:solidFill>
                <a:latin typeface="Times New Roman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solidFill>
                <a:srgbClr val="001f5c"/>
              </a:solidFill>
              <a:latin typeface="Times New Roman"/>
              <a:ea typeface="Times New Roman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2"/>
          <p:cNvSpPr/>
          <p:nvPr/>
        </p:nvSpPr>
        <p:spPr>
          <a:xfrm>
            <a:off x="468360" y="1989000"/>
            <a:ext cx="770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ррупция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это  злоупотребление служебным положением, дача взятки, получение взятки, злоупотребление полномочиями, коммерческий подкуп либо иное незаконное использование физическим лицом своего должностного положения вопреки законным интересам общества и государства в целях получения выгоды в виде денег, ценностей, иного имущества или услуг имущественного характера, иных имущественных прав для себя или для третьих лиц либо незаконное предоставление такой выгоды указанному лицу другими физическими лицами (Российское законодатель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Схема 4" descr=""/>
          <p:cNvPicPr/>
          <p:nvPr/>
        </p:nvPicPr>
        <p:blipFill>
          <a:blip r:embed="rId1"/>
          <a:stretch/>
        </p:blipFill>
        <p:spPr>
          <a:xfrm>
            <a:off x="285840" y="341280"/>
            <a:ext cx="8682120" cy="612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250920" y="1844640"/>
            <a:ext cx="7200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чины корру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низкая заработная плата государственных служащ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незнание зак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желание легкой нажи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частая сменяемость лиц на различных должност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нестабильность в стр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коррупция как привыч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низкий уровень жизни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слабая развитость государственных институ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безработи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неразвитость институтов гражданского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http://bre.mkrf.ru/media/2016/10/27/1235173191/9121.jpg"/>
          <p:cNvPicPr/>
          <p:nvPr/>
        </p:nvPicPr>
        <p:blipFill>
          <a:blip r:embed="rId1"/>
          <a:stretch/>
        </p:blipFill>
        <p:spPr>
          <a:xfrm>
            <a:off x="755640" y="3645000"/>
            <a:ext cx="3375000" cy="28447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395280" y="1628640"/>
            <a:ext cx="6732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Имущество царя не может быть, хотя бы в малости, не присвоено ведающими этим имуществ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руинимгина (шумерский царь Лагаш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https://img.glavnoe.ua/Image2018/2019/04/26/0001.jpg"/>
          <p:cNvPicPr/>
          <p:nvPr/>
        </p:nvPicPr>
        <p:blipFill>
          <a:blip r:embed="rId1"/>
          <a:stretch/>
        </p:blipFill>
        <p:spPr>
          <a:xfrm>
            <a:off x="900000" y="3933720"/>
            <a:ext cx="2232000" cy="247032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"/>
          <p:cNvSpPr/>
          <p:nvPr/>
        </p:nvSpPr>
        <p:spPr>
          <a:xfrm>
            <a:off x="684360" y="1557360"/>
            <a:ext cx="64087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Гни спину перед начальством, тогда твой дом будет в порядке, твоё жалованье будет в исправности, ибо плохо тому, кто противится перед начальником, но легко жить, когда он благоволит»</a:t>
            </a:r>
            <a:r>
              <a:rPr b="0" lang="ru-RU" sz="20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ипетский фараон Итахот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684360" y="890640"/>
            <a:ext cx="6767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казывания в мировых религ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«…начальник требует подарков, и судья судит за взятки, а вельможи высказывают злые хотения души своей и извращают дело…» (Библ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«Даров не принимай, ибо дары слепыми делают зрячих и превращают дело правых» (Библ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«Не присваивайте незаконно имущества друг друга и не подкупайте судей, чтобы намеренно присвоить часть собственности других людей» (Кор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332000" y="1341360"/>
            <a:ext cx="53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ревнеримских Законах XII таблиц термин «corrumpere» использовался в значениях «менять за деньги показания в суде» и «подкупать судь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3" descr=""/>
          <p:cNvPicPr/>
          <p:nvPr/>
        </p:nvPicPr>
        <p:blipFill>
          <a:blip r:embed="rId1"/>
          <a:srcRect l="3750" t="13749" r="31252" b="20001"/>
          <a:stretch/>
        </p:blipFill>
        <p:spPr>
          <a:xfrm>
            <a:off x="900000" y="3573360"/>
            <a:ext cx="3095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684360" y="270828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 декабря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еждународный день борьбы с коррупцией (принят ООН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1-01-23T12:51:10Z</dcterms:modified>
  <cp:revision>145</cp:revision>
  <dc:subject/>
  <dc:title>Слайд 1</dc:title>
</cp:coreProperties>
</file>